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CDA1-3E88-4CFB-B58E-26862F128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08E3-DAB2-400D-96A3-80F40E6A01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C517-ECF2-44D8-8BC3-48C5F2C4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E6BB-3DDF-461D-A6DC-1759627E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0E8C-E836-46D0-BED3-06E052FD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86C6-3055-452B-94F2-FA7F4993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B916F-7FBE-4142-A083-C6CFBC7196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8C8A9-4BA4-4501-AE9F-392C991F90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ACEB5-25CD-4DE3-A27B-323AE435E0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CDD70-4307-42DA-A3BF-BD325A4557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92FED-35F9-4233-AE92-8657ACD63B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C0F70-4DA3-4C23-BE86-7A7F690F2E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B7803-5B95-431E-99E6-4EE06EBBC9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9958-30A8-4A8C-B5DA-371245D3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BC2AD-0CED-4ED2-9919-6409E88B9A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F0CC5-414F-4BA4-803C-7E909174D0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DAB60-8B7A-46A6-9E61-BD82422050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D3656-8574-4586-A2BE-FFF5626247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9746C-9B6A-4EF7-ACA4-16189B7A64E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88B599-7681-4DEC-91E4-7FCC57F117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1C35EC-2F9D-43B5-9959-969D5B8301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8C8484-54B7-4959-A00E-93DAF75FC2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44316E-23DF-4C34-8485-9847BBA927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E1D530-9E8E-4695-8102-D65BE9E253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EA2-F432-423D-8D48-77411762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3285C8-2B98-42B3-80A3-49C8CA5B50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5F5499-16B0-4DDB-A157-805C5F51C6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93BC12-3F1D-456E-B294-A05D9C46FD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C0ED57-34BC-48D4-86B3-4B1CB87BEE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29F008-997B-4C8C-87A7-BBC95972DB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D3E2E8-4CE5-4DD2-BE4E-19ABFD575B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1DD612-059E-45EA-B7BF-419343279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B169-45FE-4DDF-9425-1055D2FE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90A5-AEC4-4FE0-A123-04DD6377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59B7-1687-4C34-8B6D-3A2503DF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5ACD-2364-453C-980A-C4D77890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F62C-044C-406C-A8F3-EC5528E1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5285-22D9-4756-A923-43715C54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BD8A-586A-4B2A-AECF-0AFCBCB90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80D49E9D-F2CD-4F54-B486-759D0C2B7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EB0D72CB-A2BA-4FB7-AA09-6DBE22C0A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9-</a:t>
            </a:r>
            <a:fld id="{85C78DEF-2E53-4792-BB69-92AED523BA7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19080" y="99720"/>
            <a:ext cx="91440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lexion, Extension and Hyperexten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1530360" y="4354560"/>
            <a:ext cx="203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gure 9.12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3243240" y="6012000"/>
            <a:ext cx="203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gure 9.12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sal25693_09_12c"/>
          <p:cNvPicPr/>
          <p:nvPr/>
        </p:nvPicPr>
        <p:blipFill>
          <a:blip r:embed="rId1"/>
          <a:stretch/>
        </p:blipFill>
        <p:spPr>
          <a:xfrm>
            <a:off x="803160" y="1197000"/>
            <a:ext cx="3768840" cy="29941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4"/>
          <p:cNvSpPr/>
          <p:nvPr/>
        </p:nvSpPr>
        <p:spPr>
          <a:xfrm>
            <a:off x="127080" y="1027080"/>
            <a:ext cx="4917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Arial"/>
              </a:rPr>
              <a:t>Copyright © The McGraw-Hill Companies, Inc. Permission required for reproduction or display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827280" y="4111560"/>
            <a:ext cx="133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1032120" y="2558880"/>
            <a:ext cx="37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Flex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2656080" y="3892680"/>
            <a:ext cx="83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Hyperext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4"/>
          <p:cNvSpPr/>
          <p:nvPr/>
        </p:nvSpPr>
        <p:spPr>
          <a:xfrm>
            <a:off x="1103400" y="4246560"/>
            <a:ext cx="2967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Arial"/>
              </a:rPr>
              <a:t>© The McGraw-Hill Companies, Inc./Timothy L. Vacula, photograph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4"/>
          <p:cNvSpPr/>
          <p:nvPr/>
        </p:nvSpPr>
        <p:spPr>
          <a:xfrm>
            <a:off x="4527720" y="1036800"/>
            <a:ext cx="4241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Arial"/>
              </a:rPr>
              <a:t>Copyright © The McGraw-Hill Companies, Inc. Permission required for reproduction or display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4990320" y="6454800"/>
            <a:ext cx="148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8" descr="sal25693_09_12d"/>
          <p:cNvPicPr/>
          <p:nvPr/>
        </p:nvPicPr>
        <p:blipFill>
          <a:blip r:embed="rId2"/>
          <a:stretch/>
        </p:blipFill>
        <p:spPr>
          <a:xfrm>
            <a:off x="4943520" y="1222200"/>
            <a:ext cx="3236760" cy="52228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9"/>
          <p:cNvSpPr/>
          <p:nvPr/>
        </p:nvSpPr>
        <p:spPr>
          <a:xfrm>
            <a:off x="6152760" y="3000240"/>
            <a:ext cx="45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H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flex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6658920" y="4811760"/>
            <a:ext cx="45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Kn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flex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1"/>
          <p:cNvSpPr/>
          <p:nvPr/>
        </p:nvSpPr>
        <p:spPr>
          <a:xfrm>
            <a:off x="6093360" y="5827680"/>
            <a:ext cx="51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Ext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4"/>
          <p:cNvSpPr/>
          <p:nvPr/>
        </p:nvSpPr>
        <p:spPr>
          <a:xfrm>
            <a:off x="5129280" y="6588000"/>
            <a:ext cx="2967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Arial"/>
              </a:rPr>
              <a:t>© The McGraw-Hill Companies, Inc./Timothy L. Vacula, photograph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9-</a:t>
            </a:r>
            <a:fld id="{13CDBE25-40C2-4D2C-BF3A-71EDB3C7D7C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25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duction and Ad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7035840" y="3781440"/>
            <a:ext cx="203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gure 9.13a,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sal25693_09_13"/>
          <p:cNvPicPr/>
          <p:nvPr/>
        </p:nvPicPr>
        <p:blipFill>
          <a:blip r:embed="rId1"/>
          <a:stretch/>
        </p:blipFill>
        <p:spPr>
          <a:xfrm>
            <a:off x="2082960" y="1157400"/>
            <a:ext cx="5043240" cy="29764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4"/>
          <p:cNvSpPr/>
          <p:nvPr/>
        </p:nvSpPr>
        <p:spPr>
          <a:xfrm>
            <a:off x="1906560" y="941400"/>
            <a:ext cx="530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2160000" y="4162320"/>
            <a:ext cx="116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(a) Abdu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4557960" y="4162320"/>
            <a:ext cx="117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(b) Addu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4"/>
          <p:cNvSpPr/>
          <p:nvPr/>
        </p:nvSpPr>
        <p:spPr>
          <a:xfrm>
            <a:off x="2516040" y="4419720"/>
            <a:ext cx="408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© The McGraw-Hill Companies, Inc./Timothy L. Vacula, photograp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9-</a:t>
            </a:r>
            <a:fld id="{757C83F7-0D8D-4B1C-A80D-9CD729F2B69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vation and Dep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18600" y="4885920"/>
            <a:ext cx="84870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same pl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6415200" y="4110120"/>
            <a:ext cx="203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gure 9.14a,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sal25693_09_14"/>
          <p:cNvPicPr/>
          <p:nvPr/>
        </p:nvPicPr>
        <p:blipFill>
          <a:blip r:embed="rId1"/>
          <a:stretch/>
        </p:blipFill>
        <p:spPr>
          <a:xfrm>
            <a:off x="1668600" y="1171440"/>
            <a:ext cx="5779800" cy="29527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24"/>
          <p:cNvSpPr/>
          <p:nvPr/>
        </p:nvSpPr>
        <p:spPr>
          <a:xfrm>
            <a:off x="1727280" y="976320"/>
            <a:ext cx="565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1733760" y="4141800"/>
            <a:ext cx="794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a) 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4771080" y="4141800"/>
            <a:ext cx="92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b)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4"/>
          <p:cNvSpPr/>
          <p:nvPr/>
        </p:nvSpPr>
        <p:spPr>
          <a:xfrm>
            <a:off x="2516040" y="4305240"/>
            <a:ext cx="408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© The McGraw-Hill Companies, Inc./Timothy L. Vacula, photograp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9-</a:t>
            </a:r>
            <a:fld id="{90F12D57-A74B-4D5A-8954-1FC232E0073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93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raction and Ret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9" descr="sal25693_09_15"/>
          <p:cNvPicPr/>
          <p:nvPr/>
        </p:nvPicPr>
        <p:blipFill>
          <a:blip r:embed="rId1"/>
          <a:stretch/>
        </p:blipFill>
        <p:spPr>
          <a:xfrm>
            <a:off x="2862360" y="995400"/>
            <a:ext cx="3090600" cy="52848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4"/>
          <p:cNvSpPr/>
          <p:nvPr/>
        </p:nvSpPr>
        <p:spPr>
          <a:xfrm>
            <a:off x="2209680" y="784080"/>
            <a:ext cx="452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2934000" y="3125880"/>
            <a:ext cx="991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(a) Protr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2962440" y="6284880"/>
            <a:ext cx="94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(b) Retr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4786200" y="5872320"/>
            <a:ext cx="203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gure 9.15a,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2724120" y="6465960"/>
            <a:ext cx="408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© The McGraw-Hill Companies, Inc./Timothy L. Vacula, photograp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9-</a:t>
            </a:r>
            <a:fld id="{CD915788-E8D9-42BD-AE62-A9D67BBD847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80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2949480" y="6431040"/>
            <a:ext cx="203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gure 9.17a,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" descr="sal25693_09_17"/>
          <p:cNvPicPr/>
          <p:nvPr/>
        </p:nvPicPr>
        <p:blipFill>
          <a:blip r:embed="rId1"/>
          <a:stretch/>
        </p:blipFill>
        <p:spPr>
          <a:xfrm>
            <a:off x="2057400" y="1219320"/>
            <a:ext cx="4776840" cy="46339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24"/>
          <p:cNvSpPr/>
          <p:nvPr/>
        </p:nvSpPr>
        <p:spPr>
          <a:xfrm>
            <a:off x="2044800" y="1008000"/>
            <a:ext cx="481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4711680" y="5867280"/>
            <a:ext cx="1547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b) Lateral (external) ro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2137320" y="5864400"/>
            <a:ext cx="1523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a) Medial (internal) ro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4"/>
          <p:cNvSpPr/>
          <p:nvPr/>
        </p:nvSpPr>
        <p:spPr>
          <a:xfrm>
            <a:off x="2436840" y="6027840"/>
            <a:ext cx="408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© The McGraw-Hill Companies, Inc./Timothy L. Vacula, photograp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9-</a:t>
            </a:r>
            <a:fld id="{2C45A0C2-46F9-4537-8EBE-08D50902051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85640" y="-36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ination and Pro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3467160" y="6041880"/>
            <a:ext cx="203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gure 9.18a,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9" descr="sal25693_09_18"/>
          <p:cNvPicPr/>
          <p:nvPr/>
        </p:nvPicPr>
        <p:blipFill>
          <a:blip r:embed="rId1"/>
          <a:stretch/>
        </p:blipFill>
        <p:spPr>
          <a:xfrm>
            <a:off x="2279520" y="1230480"/>
            <a:ext cx="4554720" cy="42116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24"/>
          <p:cNvSpPr/>
          <p:nvPr/>
        </p:nvSpPr>
        <p:spPr>
          <a:xfrm>
            <a:off x="2362320" y="9907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2376000" y="545616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a) Sup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871520" y="545616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) Pro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4"/>
          <p:cNvSpPr/>
          <p:nvPr/>
        </p:nvSpPr>
        <p:spPr>
          <a:xfrm>
            <a:off x="2471760" y="5786280"/>
            <a:ext cx="408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© The McGraw-Hill Companies, Inc./Timothy L. Vacula, photograp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9-</a:t>
            </a:r>
            <a:fld id="{62ACD2DE-7377-4B2C-B352-A16978BB9A1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66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cial Movements of the Fo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14"/>
          <p:cNvGrpSpPr/>
          <p:nvPr/>
        </p:nvGrpSpPr>
        <p:grpSpPr>
          <a:xfrm>
            <a:off x="690480" y="1249200"/>
            <a:ext cx="7618320" cy="3414240"/>
            <a:chOff x="690480" y="1249200"/>
            <a:chExt cx="7618320" cy="3414240"/>
          </a:xfrm>
        </p:grpSpPr>
        <p:pic>
          <p:nvPicPr>
            <p:cNvPr id="190" name="Picture 6" descr="T:\Graphics\Powerpoint-MH_DCM-TEXTEDIT\MH_DCM TEXT EDIT\SALADIN-TEXT EDIT\Final files\chapt09\ch09_textedit\jpg\sal25693_09_22.jpg"/>
            <p:cNvPicPr/>
            <p:nvPr/>
          </p:nvPicPr>
          <p:blipFill>
            <a:blip r:embed="rId1"/>
            <a:stretch/>
          </p:blipFill>
          <p:spPr>
            <a:xfrm>
              <a:off x="690480" y="1249200"/>
              <a:ext cx="7618320" cy="31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Rectangle 11"/>
            <p:cNvSpPr/>
            <p:nvPr/>
          </p:nvSpPr>
          <p:spPr>
            <a:xfrm>
              <a:off x="2104920" y="1360080"/>
              <a:ext cx="101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Dorsiflex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2"/>
            <p:cNvSpPr/>
            <p:nvPr/>
          </p:nvSpPr>
          <p:spPr>
            <a:xfrm>
              <a:off x="990360" y="2593800"/>
              <a:ext cx="7869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Zero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s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4"/>
            <p:cNvSpPr/>
            <p:nvPr/>
          </p:nvSpPr>
          <p:spPr>
            <a:xfrm>
              <a:off x="6541200" y="3543480"/>
              <a:ext cx="974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(c) E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5"/>
            <p:cNvSpPr/>
            <p:nvPr/>
          </p:nvSpPr>
          <p:spPr>
            <a:xfrm>
              <a:off x="4308480" y="3543480"/>
              <a:ext cx="105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(b)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6"/>
            <p:cNvSpPr/>
            <p:nvPr/>
          </p:nvSpPr>
          <p:spPr>
            <a:xfrm>
              <a:off x="2063160" y="402300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lantar flex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7"/>
            <p:cNvSpPr/>
            <p:nvPr/>
          </p:nvSpPr>
          <p:spPr>
            <a:xfrm>
              <a:off x="1084320" y="4419720"/>
              <a:ext cx="160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(a) Flexion of ank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20:53:28Z</dcterms:created>
  <dc:creator>Information Technology</dc:creator>
  <dc:description/>
  <dc:language>en-US</dc:language>
  <cp:lastModifiedBy>aj07537</cp:lastModifiedBy>
  <dcterms:modified xsi:type="dcterms:W3CDTF">2010-03-01T17:38:15Z</dcterms:modified>
  <cp:revision>1</cp:revision>
  <dc:subject/>
  <dc:title>Flexion, Extension and Hyperextension</dc:title>
</cp:coreProperties>
</file>